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1E9-E167-4B58-8083-169CC95A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366-3D9B-4AF7-86D1-7DF4254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E83-A628-4FA6-A834-627A13DC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085-90F3-446E-A3D3-8532EFD3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924-1944-4838-8F08-A909FF10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DC1-6908-4FF1-A7B9-B821554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8F0-26F3-424C-9A4C-67959DA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707-F5B9-47BC-8305-2491D01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C1D-C309-448D-AB4F-04FC4475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DB5-8302-41B7-9531-A06A986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9E6-33B4-4EFB-9E2C-F858603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D3E-582F-43D5-A99F-F016682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A8CC-059A-4560-9398-F4430E0F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33520"/>
            <a:ext cx="518472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изнай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грех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1889280"/>
            <a:ext cx="6553080" cy="740772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Признах грехът,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                         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беззаконие не скр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Гвоздеи във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еб жестоко заб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Не исках аз, о Боже мой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,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 моля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е прости, оскърбих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е аз,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                  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нараних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 T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Не исках аз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,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 Боже мой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,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                       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моля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0000"/>
                </a:solidFill>
                <a:latin typeface="Monotype Corsiva"/>
              </a:rPr>
              <a:t>е пр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105520" cy="104551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0000ff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Очите ми зарад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е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ронят сълз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Душата ми страд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върни се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и при ме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Не, че не искам Аз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жаля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е 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Но грехът е пред мен,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отделя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е от м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Върни се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и! С мен бъд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Не ме разпъвай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3718080"/>
            <a:ext cx="7772400" cy="4969800"/>
          </a:xfrm>
          <a:prstGeom prst="rect">
            <a:avLst/>
          </a:prstGeom>
          <a:gradFill rotWithShape="0">
            <a:gsLst>
              <a:gs pos="0">
                <a:srgbClr val="000000">
                  <a:alpha val="39215"/>
                </a:srgbClr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Върни ме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T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и, към Себе С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Обнови дните ми и спомни Си за м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Как ходех пред Теб във пътя 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Осияй ме Ти със лицето 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Освети, очисти и греха зали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0"/>
            <a:ext cx="8381880" cy="762120"/>
          </a:xfrm>
          <a:prstGeom prst="rect">
            <a:avLst/>
          </a:prstGeom>
          <a:gradFill rotWithShape="0">
            <a:gsLst>
              <a:gs pos="0">
                <a:srgbClr val="808080">
                  <a:alpha val="22352"/>
                </a:srgbClr>
              </a:gs>
              <a:gs pos="100000">
                <a:srgbClr val="ffffff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76320"/>
            <a:ext cx="495288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Очите ми зарад Теб ронят сълз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Душата ми страда,                               върни се Ти при ме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Не, че не искам Аз,               жаля Те 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Но грехът е пред ме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отделя Те от м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Върни се Ти!                  С мен бъд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Не ме разпъвай Ти! 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2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31:51Z</dcterms:created>
  <dc:creator>TrifonTrifonow</dc:creator>
  <dc:description/>
  <dc:language>en-US</dc:language>
  <cp:lastModifiedBy>TrifonTrifonow</cp:lastModifiedBy>
  <dcterms:modified xsi:type="dcterms:W3CDTF">2005-12-28T06:32:11Z</dcterms:modified>
  <cp:revision>1</cp:revision>
  <dc:subject/>
  <dc:title>Slide 1</dc:title>
</cp:coreProperties>
</file>